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893-FA28-4CE3-9A0C-F6D96D07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2B8-8A11-4D5C-BAE3-D4E822A4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5DD-9B49-4F15-AD47-90B82EAD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5D4-B655-4C4A-BFC4-A2AEF9A9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B2AD-8D18-4E97-9FB7-EEBA0D01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4888-8463-4AAE-92B0-11EABA82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6639-AC13-4FA4-AD07-9187A242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D26F-880C-47EB-B223-58A24D00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2A46-F113-4FF2-B0EB-481C5EA6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2BA1-39AD-4BCF-8207-C3B2C0D1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E734-44E7-46DE-B13B-45CB105A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8FC-26B1-42F0-970F-2B143135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1B18-1CB7-4A9E-BF60-72911AA6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D865-A110-4007-A59F-7A38FBE8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4188-B24F-4777-B278-5CD4F245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68C1-C56B-43D6-B95F-0C8AA2E6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EC5F-C2C3-42A9-AF1D-5DD4797F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4C01-19F1-403D-BE63-C9246BF2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9869-CE4E-47B4-8C3C-16ED30B7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E68F-9FD2-49B7-BA50-48045537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4FF0-6EB3-4145-BF82-BC58F421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7086-BD64-4544-9C8D-D4B21954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5E0-A913-41DB-9313-7B65ABC6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312F-7527-475E-A90E-C18219B2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FCA1F-DDAA-47F8-AA5F-57AA2926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F84D0-6B81-48F5-A82A-934E5BB3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74D6A-A538-46AA-A7F7-89103BA5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45C4-9640-4318-9DAF-E6665067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6386B-168D-4DFB-9D79-D03FFAC8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70FB-AE9A-4E90-B135-830B8419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ED2-33BE-4626-A8FB-3FB5F9DE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69A-C6E5-40C8-B8F7-C552FBF1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96D-1D20-491F-AF2A-97A6BB27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C4B-638A-4E39-AE6E-A04AC643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EA4-D78F-4F53-8B49-5262A718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DB0-FE31-4057-AAA8-FECECEEC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3CE6-7AC8-44AF-ABCB-8543B28FF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3899-2FEC-43A3-A279-C9AF8C33C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5458-C7C7-4AC5-B7D0-AD3D51804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Mature Structure of Woody vs Herbaceous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erbaceous 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ck secondary growth - because plants only live one year/growing season (annual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Mature Structure of Woody vs Herbaceous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Woody ste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lants living and growing over multiple seasons have secondary growth (xylem, phloem) increasing diamete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of the 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s of a Dicot Le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eaf blad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expanded, usually flat portion of a leaf – contains chloropla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etiol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connects the blade of a leaf to a stem or branch – holds leaf up for better air flow and to catch the li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s of a Dicot Le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ein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threads of vascular tissue (xylem &amp; phloe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od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 place on a stem where leaves or branches normally origin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e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used for support of lea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palmate lesf"/>
          <p:cNvPicPr/>
          <p:nvPr/>
        </p:nvPicPr>
        <p:blipFill>
          <a:blip r:embed="rId1"/>
          <a:stretch/>
        </p:blipFill>
        <p:spPr>
          <a:xfrm>
            <a:off x="2514600" y="1255680"/>
            <a:ext cx="5181480" cy="3888000"/>
          </a:xfrm>
          <a:prstGeom prst="rect">
            <a:avLst/>
          </a:prstGeom>
          <a:ln w="0">
            <a:noFill/>
          </a:ln>
        </p:spPr>
      </p:pic>
      <p:sp>
        <p:nvSpPr>
          <p:cNvPr id="155" name="Line 5"/>
          <p:cNvSpPr/>
          <p:nvPr/>
        </p:nvSpPr>
        <p:spPr>
          <a:xfrm flipV="1">
            <a:off x="2133720" y="3200400"/>
            <a:ext cx="22096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57200" y="3962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Leaf 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H="1">
            <a:off x="5866920" y="914400"/>
            <a:ext cx="2057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934320" y="4572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etio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 flipH="1" flipV="1">
            <a:off x="5410080" y="3047760"/>
            <a:ext cx="198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467480" y="3657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3886200" y="380880"/>
            <a:ext cx="220968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0" y="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Where leaf would be attached to the branch or stem at the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53352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cot Le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s of a Monocot Le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od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where leaf arises or originates fr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lad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leaf blade – flat upper portion of lea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em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 used for support of leaf, inflorescence, and seed he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s of a Monocot Le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heat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part of leaf that holds leaf to stem – encases 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igul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 membrane-like tissue extending up from the sheath (on inside) – keeps dirt and moisture out – clear membrane on leaf where attaches to 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moncot leaf attachment"/>
          <p:cNvPicPr/>
          <p:nvPr/>
        </p:nvPicPr>
        <p:blipFill>
          <a:blip r:embed="rId1"/>
          <a:stretch/>
        </p:blipFill>
        <p:spPr>
          <a:xfrm>
            <a:off x="0" y="0"/>
            <a:ext cx="4343400" cy="325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9" name="Picture 5" descr="monocot auricle ligule"/>
          <p:cNvPicPr/>
          <p:nvPr/>
        </p:nvPicPr>
        <p:blipFill>
          <a:blip r:embed="rId2"/>
          <a:stretch/>
        </p:blipFill>
        <p:spPr>
          <a:xfrm>
            <a:off x="4343400" y="3255840"/>
            <a:ext cx="4800600" cy="3602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0" name="Picture 6" descr="monocot collar"/>
          <p:cNvPicPr/>
          <p:nvPr/>
        </p:nvPicPr>
        <p:blipFill>
          <a:blip r:embed="rId3"/>
          <a:stretch/>
        </p:blipFill>
        <p:spPr>
          <a:xfrm>
            <a:off x="0" y="3276720"/>
            <a:ext cx="4343400" cy="358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1" name="Picture 7" descr="monocot node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27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Line 8"/>
          <p:cNvSpPr/>
          <p:nvPr/>
        </p:nvSpPr>
        <p:spPr>
          <a:xfrm flipH="1">
            <a:off x="2590920" y="1219320"/>
            <a:ext cx="9144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590920" y="83808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h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1523520" y="533520"/>
            <a:ext cx="83844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2286000" y="228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 flipH="1" flipV="1">
            <a:off x="5028840" y="2209680"/>
            <a:ext cx="16765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629400" y="259092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143000" y="487692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0" y="44197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ol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 flipH="1">
            <a:off x="5790960" y="4876920"/>
            <a:ext cx="609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095880" y="4495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Aur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V="1">
            <a:off x="5257800" y="617184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800600" y="6278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Lig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3733920" y="42670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3048120" y="525780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267080" y="0"/>
            <a:ext cx="289584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Monocot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fferences Between Monocot and Dicot Lea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onocot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blade like leaf blade – wrap around the stem – no petiole – have main vascular bundles running parallel along length of lea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icot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 Have both a leaf blade and a petiole – single midrib (Vascular bundles) with 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ypes of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imple leav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composed of a single leaf  and a petio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palmate lesf"/>
          <p:cNvPicPr/>
          <p:nvPr/>
        </p:nvPicPr>
        <p:blipFill>
          <a:blip r:embed="rId1"/>
          <a:stretch/>
        </p:blipFill>
        <p:spPr>
          <a:xfrm>
            <a:off x="3429000" y="3825720"/>
            <a:ext cx="37339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ny things are taken into consideration when trying to identify a pla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ots, stems, leaves and flowers will help in the identification proces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Palmate Venation"/>
          <p:cNvPicPr/>
          <p:nvPr/>
        </p:nvPicPr>
        <p:blipFill>
          <a:blip r:embed="rId1"/>
          <a:stretch/>
        </p:blipFill>
        <p:spPr>
          <a:xfrm>
            <a:off x="182880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371600" y="571500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72000" y="5334120"/>
            <a:ext cx="16765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imple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162920" y="1828800"/>
            <a:ext cx="685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8487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0020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eti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 flipV="1">
            <a:off x="2971800" y="5333760"/>
            <a:ext cx="121932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219320" y="632448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2"/>
          <p:cNvSpPr/>
          <p:nvPr/>
        </p:nvSpPr>
        <p:spPr>
          <a:xfrm>
            <a:off x="5410080" y="457200"/>
            <a:ext cx="2514600" cy="4648320"/>
          </a:xfrm>
          <a:custGeom>
            <a:avLst/>
            <a:gdLst>
              <a:gd name="textAreaLeft" fmla="*/ 0 w 2514600"/>
              <a:gd name="textAreaRight" fmla="*/ 907920 w 25146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ypes of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ompound leav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are composed of a blade that includes several leaflets and a petiole – also contain a rachis (connects leaflets to the petiole) – two typ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ypes of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almately Compoun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(chestnut) – the lobes or divisions come together and are attached at one place at the bas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Palmate"/>
          <p:cNvPicPr/>
          <p:nvPr/>
        </p:nvPicPr>
        <p:blipFill>
          <a:blip r:embed="rId1"/>
          <a:stretch/>
        </p:blipFill>
        <p:spPr>
          <a:xfrm>
            <a:off x="2057400" y="380880"/>
            <a:ext cx="4862520" cy="5943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6324480" y="2514600"/>
            <a:ext cx="1371600" cy="15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324480" y="990720"/>
            <a:ext cx="16002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324480" y="3962520"/>
            <a:ext cx="6858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6324480" y="5410080"/>
            <a:ext cx="685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324480" y="533520"/>
            <a:ext cx="838440" cy="82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2448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324480" y="228600"/>
            <a:ext cx="685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6629400" y="2514600"/>
            <a:ext cx="2209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almately Compound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0" y="1600200"/>
            <a:ext cx="20574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eaf  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752480" y="7621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905120" y="5791320"/>
            <a:ext cx="51051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419720" y="5029200"/>
            <a:ext cx="1676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i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 flipH="1" flipV="1">
            <a:off x="4267080" y="457200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ypes of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innately Compoun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compound leaf with the leaflets on two opposite sides, but off of one node – ex: ferns, ash, hick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Pinnate Compound 1"/>
          <p:cNvPicPr/>
          <p:nvPr/>
        </p:nvPicPr>
        <p:blipFill>
          <a:blip r:embed="rId1"/>
          <a:stretch/>
        </p:blipFill>
        <p:spPr>
          <a:xfrm>
            <a:off x="2154240" y="380880"/>
            <a:ext cx="5030640" cy="5867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1905120" y="5105520"/>
            <a:ext cx="16002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934320" y="1905120"/>
            <a:ext cx="990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4572000" y="5105520"/>
            <a:ext cx="22096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innately Compound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1752480"/>
            <a:ext cx="2209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f 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2209680" y="609480"/>
            <a:ext cx="457200" cy="3886200"/>
          </a:xfrm>
          <a:custGeom>
            <a:avLst/>
            <a:gdLst>
              <a:gd name="textAreaLeft" fmla="*/ 134280 w 457200"/>
              <a:gd name="textAreaRight" fmla="*/ 457560 w 457200"/>
              <a:gd name="textAreaTop" fmla="*/ 161640 h 3886200"/>
              <a:gd name="textAreaBottom" fmla="*/ 37245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477120" y="9144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eaf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5257800" y="121932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1447920" y="5334120"/>
            <a:ext cx="1828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eti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 flipV="1">
            <a:off x="2895480" y="510552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f Arran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nocots – have only one type of arrangement – leaf comes off of a node – ex: grasses and grain cro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1600200" y="3049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Leaf Arr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33520" y="1905120"/>
            <a:ext cx="800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Dicots – flowering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ternate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one leaf per n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Opposite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two leaves per n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Whorled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three or more leaves per n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alternate leaf arrnagement"/>
          <p:cNvPicPr/>
          <p:nvPr/>
        </p:nvPicPr>
        <p:blipFill>
          <a:blip r:embed="rId1"/>
          <a:stretch/>
        </p:blipFill>
        <p:spPr>
          <a:xfrm>
            <a:off x="0" y="5105520"/>
            <a:ext cx="2362320" cy="1752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opposite leaf arrangement"/>
          <p:cNvPicPr/>
          <p:nvPr/>
        </p:nvPicPr>
        <p:blipFill>
          <a:blip r:embed="rId2"/>
          <a:stretch/>
        </p:blipFill>
        <p:spPr>
          <a:xfrm>
            <a:off x="3200400" y="49719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whorled leaf arrangement"/>
          <p:cNvPicPr/>
          <p:nvPr/>
        </p:nvPicPr>
        <p:blipFill>
          <a:blip r:embed="rId3"/>
          <a:stretch/>
        </p:blipFill>
        <p:spPr>
          <a:xfrm>
            <a:off x="6095880" y="485784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1600200" y="2286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Leaf Arran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1440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Whorl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look like helicopter blades – ex: Bed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ternate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one on each side of the stem, are not opposite of each other but every other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Opposite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one on each side of the stem and opposite of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alternate leaf arrnagement"/>
          <p:cNvPicPr/>
          <p:nvPr/>
        </p:nvPicPr>
        <p:blipFill>
          <a:blip r:embed="rId1"/>
          <a:stretch/>
        </p:blipFill>
        <p:spPr>
          <a:xfrm>
            <a:off x="0" y="3276720"/>
            <a:ext cx="1341360" cy="1234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opposite leaf arrangement"/>
          <p:cNvPicPr/>
          <p:nvPr/>
        </p:nvPicPr>
        <p:blipFill>
          <a:blip r:embed="rId2"/>
          <a:stretch/>
        </p:blipFill>
        <p:spPr>
          <a:xfrm>
            <a:off x="0" y="487692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whorled leaf arrangement"/>
          <p:cNvPicPr/>
          <p:nvPr/>
        </p:nvPicPr>
        <p:blipFill>
          <a:blip r:embed="rId3"/>
          <a:stretch/>
        </p:blipFill>
        <p:spPr>
          <a:xfrm>
            <a:off x="0" y="1973160"/>
            <a:ext cx="12952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ngement of V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 types of vein arrangem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arallel vein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veins are small and run more or less parallel – most are long and narrow – ex: Buckhorn Plantain, grasses and Iris – mostly monoc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ou have two main categories of pla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onocot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grasses, grain crops, lilies, gladiolas, and palm tr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ngement of V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etted vein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are large and small – the small ones connecting to each other to form a net – mostly dic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ngement of V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innately veine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with one larger midvein and smaller veins coming off along its length – mostly dic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ngement of V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almately veine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with two or more large veins arising at or near the base of the leaf blade (palm) – leaves are usually broad or fat – mostly dic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alternate vein arrangement"/>
          <p:cNvPicPr/>
          <p:nvPr/>
        </p:nvPicPr>
        <p:blipFill>
          <a:blip r:embed="rId1"/>
          <a:stretch/>
        </p:blipFill>
        <p:spPr>
          <a:xfrm>
            <a:off x="4572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net veined leaf"/>
          <p:cNvPicPr/>
          <p:nvPr/>
        </p:nvPicPr>
        <p:blipFill>
          <a:blip r:embed="rId2"/>
          <a:stretch/>
        </p:blipFill>
        <p:spPr>
          <a:xfrm>
            <a:off x="457200" y="22860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palmate leaf"/>
          <p:cNvPicPr/>
          <p:nvPr/>
        </p:nvPicPr>
        <p:blipFill>
          <a:blip r:embed="rId3"/>
          <a:stretch/>
        </p:blipFill>
        <p:spPr>
          <a:xfrm>
            <a:off x="6033960" y="1981080"/>
            <a:ext cx="3110040" cy="2333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parallel veins"/>
          <p:cNvPicPr/>
          <p:nvPr/>
        </p:nvPicPr>
        <p:blipFill>
          <a:blip r:embed="rId4"/>
          <a:stretch/>
        </p:blipFill>
        <p:spPr>
          <a:xfrm>
            <a:off x="457200" y="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3657600" y="533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arallel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3505320" y="274320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Netted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3733920" y="54100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innately Ve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867280" y="4572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almately Ve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flwrparts"/>
          <p:cNvPicPr/>
          <p:nvPr/>
        </p:nvPicPr>
        <p:blipFill>
          <a:blip r:embed="rId1"/>
          <a:stretch/>
        </p:blipFill>
        <p:spPr>
          <a:xfrm>
            <a:off x="457200" y="76320"/>
            <a:ext cx="822960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icot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have sepals and/or petals in multiples of four or f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onocot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have sepals in multiples of thr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giosperms – flowering pla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ymnosperms – cone bearing pla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Complete flower"/>
          <p:cNvPicPr/>
          <p:nvPr/>
        </p:nvPicPr>
        <p:blipFill>
          <a:blip r:embed="rId1"/>
          <a:stretch/>
        </p:blipFill>
        <p:spPr>
          <a:xfrm>
            <a:off x="1676520" y="1141560"/>
            <a:ext cx="5943600" cy="44593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066680" y="2286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Parts of a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 flipH="1">
            <a:off x="5028840" y="1676520"/>
            <a:ext cx="1600200" cy="68580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629400" y="1371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P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 flipH="1">
            <a:off x="4800240" y="2590920"/>
            <a:ext cx="1676520" cy="30456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6324480" y="22096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Stamens (anther &amp; fila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 flipH="1" flipV="1">
            <a:off x="4495680" y="2971800"/>
            <a:ext cx="1371600" cy="137160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5867280" y="41911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Pistil (stigma,style &amp; ova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2209680" y="1600200"/>
            <a:ext cx="2057400" cy="99072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143000" y="1295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Sep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 flipV="1">
            <a:off x="1447920" y="3123720"/>
            <a:ext cx="2286000" cy="114300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09480" y="4191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Pedi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potentella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5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5" name="Line 5"/>
          <p:cNvSpPr/>
          <p:nvPr/>
        </p:nvSpPr>
        <p:spPr>
          <a:xfrm flipH="1" flipV="1">
            <a:off x="5562720" y="3733920"/>
            <a:ext cx="1371600" cy="45720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6934320" y="3886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Sep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 flipV="1">
            <a:off x="3276720" y="3657600"/>
            <a:ext cx="1981080" cy="99072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447920" y="44956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Recept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3429000" y="2286000"/>
            <a:ext cx="1905120" cy="68580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057400" y="1905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Pedi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85800" y="228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Parts of a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lcp4_32"/>
          <p:cNvPicPr/>
          <p:nvPr/>
        </p:nvPicPr>
        <p:blipFill>
          <a:blip r:embed="rId1"/>
          <a:stretch/>
        </p:blipFill>
        <p:spPr>
          <a:xfrm>
            <a:off x="685800" y="1905120"/>
            <a:ext cx="7848720" cy="44384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nocots and Dic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scular Bundle of Monoc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onocots, the vascular bundles in the stem cross section are usually scattered or more complex of an arrangement as compared to dic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8" descr="Zeastem"/>
          <p:cNvPicPr/>
          <p:nvPr/>
        </p:nvPicPr>
        <p:blipFill>
          <a:blip r:embed="rId1"/>
          <a:stretch/>
        </p:blipFill>
        <p:spPr>
          <a:xfrm>
            <a:off x="228600" y="2209680"/>
            <a:ext cx="44956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icot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 most of the other plants such as the shrubs, trees, and flow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scular Bundle of Dic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08240" y="2259000"/>
            <a:ext cx="370188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scular bundles in the stem cross section of dicots are arranged in a circle, or r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Medicagostem"/>
          <p:cNvPicPr/>
          <p:nvPr/>
        </p:nvPicPr>
        <p:blipFill>
          <a:blip r:embed="rId1"/>
          <a:stretch/>
        </p:blipFill>
        <p:spPr>
          <a:xfrm>
            <a:off x="1136520" y="2119320"/>
            <a:ext cx="35625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Pl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ocot is on the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at 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ot is on the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n 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ce the difference in the two 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8" descr="planthabit"/>
          <p:cNvPicPr/>
          <p:nvPr/>
        </p:nvPicPr>
        <p:blipFill>
          <a:blip r:embed="rId1"/>
          <a:stretch/>
        </p:blipFill>
        <p:spPr>
          <a:xfrm>
            <a:off x="762120" y="1447920"/>
            <a:ext cx="3612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Dic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7" descr="DICOTS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5" descr="monocots_1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40356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Monoc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Ro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ap Ro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ve a main central root and may have some lateral bran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.g. Carr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Ro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Fibrou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ve many roots of equal size and a lot of lateral bran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brous roots are generally much more diffuse and closer to the surf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Ro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itrogen fixing root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 members of the Leguminosae family (alfalfa, peas and clover) have a bacteria that infects their roots and forms nodules.  The bacteria are able to fix atmospheric nitrogen, to a form, that the plant can us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Bean Seed ID"/>
          <p:cNvPicPr/>
          <p:nvPr/>
        </p:nvPicPr>
        <p:blipFill>
          <a:blip r:embed="rId1"/>
          <a:stretch/>
        </p:blipFill>
        <p:spPr>
          <a:xfrm>
            <a:off x="838080" y="455760"/>
            <a:ext cx="7543800" cy="5648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523880" y="5638680"/>
            <a:ext cx="99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400800" y="304920"/>
            <a:ext cx="838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143000" y="228600"/>
            <a:ext cx="533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33520" y="6095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cot 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Onion seed"/>
          <p:cNvPicPr/>
          <p:nvPr/>
        </p:nvPicPr>
        <p:blipFill>
          <a:blip r:embed="rId1"/>
          <a:stretch/>
        </p:blipFill>
        <p:spPr>
          <a:xfrm>
            <a:off x="533520" y="633240"/>
            <a:ext cx="8229600" cy="5421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143000" y="304920"/>
            <a:ext cx="6094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520" y="5410080"/>
            <a:ext cx="6094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09480" y="5867280"/>
            <a:ext cx="3200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nocot 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2:57:05Z</dcterms:created>
  <dc:creator>Student</dc:creator>
  <dc:description/>
  <dc:language>en-US</dc:language>
  <cp:lastModifiedBy>Student</cp:lastModifiedBy>
  <dcterms:modified xsi:type="dcterms:W3CDTF">2010-05-24T12:56:00Z</dcterms:modified>
  <cp:revision>1</cp:revision>
  <dc:subject/>
  <dc:title>Plants</dc:title>
</cp:coreProperties>
</file>